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F03-6CEF-41B8-A766-C8795D2D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AF0-AF39-46A5-B492-3B78873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A07-A74A-49E1-83BF-6D7C38EB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8F8-633C-4422-84BA-AD02BCDA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64F-77C9-4CCF-B406-6D6DC2C0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461-A0C4-4C28-916D-BA07C8C8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AA4-9145-4C3D-91CE-956F8DFA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523-DC4A-4069-B56C-B496B37B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8C6-AE69-4138-9549-84BF678A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A24-FA54-4B43-AA35-F853F77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63A-4518-4514-BCDE-3F5CD3F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B80-10A0-4354-91BF-C6A93057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5DE6-CDB8-438B-9188-5015322820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imetoteach.co.uk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Time to Teach Pres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90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ar 5 (National Numeracy Strate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ased on DFEE Sample Les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83808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ivision of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arger numbe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77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timetoteach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day you are going to look at ways of dividing three-digit numbers by one-digit numbers using mental methods as well as written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am going to give you some su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the approximate answ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3505320"/>
            <a:ext cx="5181480" cy="2971800"/>
            <a:chOff x="533520" y="3505320"/>
            <a:chExt cx="5181480" cy="2971800"/>
          </a:xfrm>
        </p:grpSpPr>
        <p:sp>
          <p:nvSpPr>
            <p:cNvPr id="66" name=""/>
            <p:cNvSpPr/>
            <p:nvPr/>
          </p:nvSpPr>
          <p:spPr>
            <a:xfrm>
              <a:off x="533520" y="3505320"/>
              <a:ext cx="5181480" cy="297180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57600"/>
              <a:ext cx="236232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75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5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8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3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8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7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51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6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range of estimates are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520" y="3505320"/>
            <a:ext cx="5181480" cy="2971800"/>
            <a:chOff x="533520" y="3505320"/>
            <a:chExt cx="5181480" cy="2971800"/>
          </a:xfrm>
        </p:grpSpPr>
        <p:sp>
          <p:nvSpPr>
            <p:cNvPr id="71" name=""/>
            <p:cNvSpPr/>
            <p:nvPr/>
          </p:nvSpPr>
          <p:spPr>
            <a:xfrm>
              <a:off x="533520" y="3505320"/>
              <a:ext cx="5181480" cy="297180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3657600"/>
              <a:ext cx="236232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75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5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8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3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84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7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51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6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this question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3520" y="3505320"/>
            <a:ext cx="5181480" cy="2971800"/>
            <a:chOff x="533520" y="3505320"/>
            <a:chExt cx="5181480" cy="2971800"/>
          </a:xfrm>
        </p:grpSpPr>
        <p:sp>
          <p:nvSpPr>
            <p:cNvPr id="76" name=""/>
            <p:cNvSpPr/>
            <p:nvPr/>
          </p:nvSpPr>
          <p:spPr>
            <a:xfrm>
              <a:off x="533520" y="3505320"/>
              <a:ext cx="5181480" cy="297180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6576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75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5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ing may not be needed for small numbers or simple proble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important for keeping track when dealing with more complex calcul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we need to make informal jott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times we need to be more careful so we can check our ideas and to share it with someone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the other division questions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n estimate then check your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8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8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5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Simplification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rovide a multiplication grid. Children can work with two-digit numbers divided by one-digit numbers and three-digit multiples of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llenge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llenge children to find a quick and efficient way to solve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estimate the size of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use informal methods of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record my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use quick informal methods for division and checking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ication gri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cc33"/>
                </a:solidFill>
                <a:latin typeface="Comic Sans MS"/>
              </a:rPr>
              <a:t>384 </a:t>
            </a:r>
            <a:r>
              <a:rPr b="1" lang="en-GB" sz="3600" spc="-1" strike="noStrike">
                <a:solidFill>
                  <a:srgbClr val="33cc33"/>
                </a:solidFill>
                <a:latin typeface="Symbol"/>
                <a:ea typeface="Symbol"/>
              </a:rPr>
              <a:t></a:t>
            </a:r>
            <a:r>
              <a:rPr b="1" lang="en-GB" sz="3600" spc="-1" strike="noStrike">
                <a:solidFill>
                  <a:srgbClr val="33cc33"/>
                </a:solidFill>
                <a:latin typeface="Comic Sans MS"/>
              </a:rPr>
              <a:t> 3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rite your working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 through your th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es it look like with the standard metho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view of 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compare informal and formal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d you learn how to do this in this less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practise the four opera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am going to write 5 digits on the board, the four operation signs and a target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can use each digi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have to use all the digits if you don’t want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o can get nearest to the target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arget :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 5 3 7 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+ - x </a:t>
            </a:r>
            <a:r>
              <a:rPr b="0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o got the clos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w your solutions on the boar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practise the four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estimate the size of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use informal methods of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record my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can use quick informal methods for division and checking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371600"/>
            <a:ext cx="6629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 can compar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ormal and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formal metho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1:07:11Z</dcterms:created>
  <dc:creator> Peter Fogarty</dc:creator>
  <dc:description/>
  <dc:language>en-US</dc:language>
  <cp:lastModifiedBy>Staff</cp:lastModifiedBy>
  <dcterms:modified xsi:type="dcterms:W3CDTF">2010-04-23T08:55:49Z</dcterms:modified>
  <cp:revision>15</cp:revision>
  <dc:subject/>
  <dc:title>Time to Teach Presents</dc:title>
</cp:coreProperties>
</file>